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AB9B4-4BA4-42DB-B05C-AB42B5E08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AD62F-CB80-49C5-A888-B1807EA10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26EDE-EBDD-4FBD-AB73-247D8F430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D0575-7FF0-4E3D-85C0-A11329A1B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81A048-8713-4B0E-AD99-92870894C4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62E8A-E2CE-4F7B-83B1-047855163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33045-493C-4AD4-9091-B57F9BEAA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830B4-3614-4681-B768-2CC92B7DD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9D8A1-E300-4EAE-A2CA-0B0A0D794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F7DF8-2256-4878-A258-DC0ACF167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3A988-11C2-49C7-84F4-4A35D9F0A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8014E-E316-480F-A3DC-6E8F8A7A8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DA0D6-FD48-4276-9F9C-164F1D74E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A42D5-1EC0-4632-9349-BA6BE1BB8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3A377-798F-41EE-B31F-29C9B4668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F4A17A-D7F4-4DDF-B807-1B2F817CFE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0FDC1-962C-4669-96BA-22280ABAE7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9A99F-9EC5-4F92-AE34-F8EC4665F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062A2-CE2A-40E4-98EC-B04135EC5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1DE07-1CA5-4652-9F70-0060E19C9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6447A-265E-4D4B-AB16-CE5815BA0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E4850-35B2-49D4-A1CD-9BFB47E4E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E6E1D-B025-4F8A-9070-6021DEFE6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7657D-5E04-49A8-9768-47995AB65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D4DF-69F5-4B69-8033-534F988E58D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05BDA-F5AC-42AB-80C1-F3431DC5801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English</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ct. 6</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genda</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 on t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 in group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L</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on is out during the day just as much as at night but sometimes the sun is so bright you can’t see the moon and if the sun werent so bright, you could see planets and stars alright, too.</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eam:torrent::_____:gal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btor:owe::vendor:_______</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on </a:t>
            </a:r>
            <a:r>
              <a:rPr b="1" i="1" lang="en-US" sz="3600" spc="-1" strike="noStrike">
                <a:solidFill>
                  <a:srgbClr val="006666"/>
                </a:solidFill>
                <a:latin typeface="Arial"/>
              </a:rPr>
              <a:t>The Pearl</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ll be graded on the follow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st be 2 chapter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chapter must be at least 2 pag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st follow the storyline, do not have Juana murder Kino, or Kino turn into a transformer, etc. Follow Steinbeck’s exampl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ue on Tuesda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oup work</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de who will be in your grou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de what scene or scenes you will re-enac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de who will play parts, where you will film it, etc. et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ue Tuesday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reative, have fun</a:t>
            </a:r>
            <a:r>
              <a:rPr b="0" lang="en-US" sz="2800" spc="-1" strike="noStrike">
                <a:solidFill>
                  <a:srgbClr val="003366"/>
                </a:solidFill>
                <a:latin typeface="Wingdings"/>
                <a:ea typeface="Wingdings"/>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13:27:35Z</dcterms:created>
  <dc:creator>VMS</dc:creator>
  <dc:description/>
  <dc:language>en-US</dc:language>
  <cp:lastModifiedBy>VMS</cp:lastModifiedBy>
  <dcterms:modified xsi:type="dcterms:W3CDTF">2009-10-06T17:56:55Z</dcterms:modified>
  <cp:revision>2</cp:revision>
  <dc:subject/>
  <dc:title>English</dc:title>
</cp:coreProperties>
</file>